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C4A4DC-E75A-49FB-858A-1E2444337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0FBF9-D5B9-4F34-B94B-88C1F39AA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19800-5267-4DFB-B718-E51A0E8D98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96DA0-604E-44E4-8E82-7D4504169A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103C6-3773-4325-BA63-CE81ABB24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5D2B0-3C80-4700-8A58-CB07A6C9B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4A388-99D8-4028-A2F5-6739AF0CB1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5E638-8D74-4D83-ADD2-2ED004D319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CC926-4ECE-4AD8-9F2B-211D1ACB7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CE34A-3320-4253-880A-58B86EDC9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A278F2-8612-4EEB-9FCA-182651A056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022B3-C2C3-44EE-BBC7-CA34ACAF3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F4A4-C1BE-4414-8B2B-6EA8638638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14 Juille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escu  Ana Maria</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lasa a 9-a D</a:t>
            </a:r>
            <a:endParaRPr b="0" lang="en-US" sz="3200" spc="-1" strike="noStrike">
              <a:solidFill>
                <a:srgbClr val="000000"/>
              </a:solidFill>
              <a:latin typeface="Arial"/>
            </a:endParaRPr>
          </a:p>
        </p:txBody>
      </p:sp>
      <p:pic>
        <p:nvPicPr>
          <p:cNvPr id="43" name="" descr=""/>
          <p:cNvPicPr/>
          <p:nvPr/>
        </p:nvPicPr>
        <p:blipFill>
          <a:blip r:embed="rId1"/>
          <a:stretch/>
        </p:blipFill>
        <p:spPr>
          <a:xfrm>
            <a:off x="2916360" y="260280"/>
            <a:ext cx="3311280" cy="2322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Comment les français célèbrent la journée du 14 Juille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que année, le 14 Juillet, un grand défilé militaire a lieu sur les Champs-Elysées. Parades militaires, des cérémonies et des feux d'artifice profitent d'un préparé avec soin.</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lon des traditions immuables, le 14 Juillet, à 10h00, le président atteindre le rond-point l'Etoile, seront accueillis par le chef d'état-major et  ira sur les Champs-Elysée bord d'une voiture ouvert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ade sera ouverte du porte-avions Alpha Jet (Patrouille de France) avec une fonction spéciale, qui consiste en la participation d'environ 20 machines de la flotte d'aéronefs célèbre ses  a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1"/>
          <a:stretch/>
        </p:blipFill>
        <p:spPr>
          <a:xfrm>
            <a:off x="611280" y="2060640"/>
            <a:ext cx="4537080" cy="2763720"/>
          </a:xfrm>
          <a:prstGeom prst="rect">
            <a:avLst/>
          </a:prstGeom>
          <a:ln w="0">
            <a:noFill/>
          </a:ln>
        </p:spPr>
      </p:pic>
      <p:pic>
        <p:nvPicPr>
          <p:cNvPr id="69" name="" descr=""/>
          <p:cNvPicPr/>
          <p:nvPr/>
        </p:nvPicPr>
        <p:blipFill>
          <a:blip r:embed="rId2"/>
          <a:stretch/>
        </p:blipFill>
        <p:spPr>
          <a:xfrm>
            <a:off x="5580000" y="1989000"/>
            <a:ext cx="3021120" cy="403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 14 Juillet est la Journée nationale de la F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ussi cette journée signifie la chute de la Bastille qui a marqué le début de la Révolution francaiçai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s symboles de la Franc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rc de Triomphe du Paris est le plus grand arc de triomphe dans le monde. Il présente 49 m et a été inaugure par l’empereur Napoléon en 18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our Eiffel nommé après l'architecte Gustave Eiffel est le symbole le plus connu de la Fr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Palais Versallies construit entre 1664 et 1715 a été la résidence de la famille royale jusqu'en 1789, quand il a été la Révolution françai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oltaire – auteur et philosop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Victor Hugo – poète, dramaturge, romancier, connu pour le roman "Les Misérab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Tour Eiffel                 </a:t>
            </a:r>
            <a:r>
              <a:rPr b="0" lang="en-GB" sz="3200" spc="-1" strike="noStrike">
                <a:solidFill>
                  <a:srgbClr val="000000"/>
                </a:solidFill>
                <a:latin typeface="Arial"/>
              </a:rPr>
              <a:t>L’Arc de Triomphe </a:t>
            </a:r>
            <a:endParaRPr b="0" lang="en-US" sz="3200" spc="-1" strike="noStrike">
              <a:solidFill>
                <a:srgbClr val="000000"/>
              </a:solidFill>
              <a:latin typeface="Arial"/>
            </a:endParaRPr>
          </a:p>
        </p:txBody>
      </p:sp>
      <p:pic>
        <p:nvPicPr>
          <p:cNvPr id="52" name="" descr=""/>
          <p:cNvPicPr/>
          <p:nvPr/>
        </p:nvPicPr>
        <p:blipFill>
          <a:blip r:embed="rId1"/>
          <a:stretch/>
        </p:blipFill>
        <p:spPr>
          <a:xfrm>
            <a:off x="900000" y="2205000"/>
            <a:ext cx="2095560" cy="3876840"/>
          </a:xfrm>
          <a:prstGeom prst="rect">
            <a:avLst/>
          </a:prstGeom>
          <a:ln w="0">
            <a:noFill/>
          </a:ln>
        </p:spPr>
      </p:pic>
      <p:pic>
        <p:nvPicPr>
          <p:cNvPr id="53" name="" descr=""/>
          <p:cNvPicPr/>
          <p:nvPr/>
        </p:nvPicPr>
        <p:blipFill>
          <a:blip r:embed="rId2"/>
          <a:stretch/>
        </p:blipFill>
        <p:spPr>
          <a:xfrm>
            <a:off x="5364000" y="2133720"/>
            <a:ext cx="2918160" cy="388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Palais Versallies</a:t>
            </a:r>
            <a:endParaRPr b="0" lang="en-US" sz="3200" spc="-1" strike="noStrike">
              <a:solidFill>
                <a:srgbClr val="000000"/>
              </a:solidFill>
              <a:latin typeface="Arial"/>
            </a:endParaRPr>
          </a:p>
        </p:txBody>
      </p:sp>
      <p:pic>
        <p:nvPicPr>
          <p:cNvPr id="56" name="" descr=""/>
          <p:cNvPicPr/>
          <p:nvPr/>
        </p:nvPicPr>
        <p:blipFill>
          <a:blip r:embed="rId1"/>
          <a:stretch/>
        </p:blipFill>
        <p:spPr>
          <a:xfrm>
            <a:off x="1547640" y="2421000"/>
            <a:ext cx="5473800" cy="285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berté, Égalité, Fraternité</a:t>
            </a:r>
            <a:br>
              <a:rPr sz="4000"/>
            </a:b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iberté, Égalité, Fraternité</a:t>
            </a:r>
            <a:r>
              <a:rPr b="0" lang="en-US" sz="3200" spc="-1" strike="noStrike">
                <a:solidFill>
                  <a:srgbClr val="000000"/>
                </a:solidFill>
                <a:latin typeface="Arial"/>
              </a:rPr>
              <a:t> est la devise de la République française. Si elle puise ses origines dans la Révolution française, au cours de laquelle elle est une formule parmi d'autres, elle ne sera adoptée officiellement en France qu'à la fin du xixe siècle, par la Troisième République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devise Liberté, Égalité, Fraternité est issue de la Révolution française : elle apparaît dans le débat public avant la proclamation de la Première République, dès 179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1476360" y="1773360"/>
            <a:ext cx="6121440" cy="41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17:56:26Z</dcterms:created>
  <dc:creator>ANA</dc:creator>
  <dc:description/>
  <dc:language>en-US</dc:language>
  <cp:lastModifiedBy>ANA</cp:lastModifiedBy>
  <dcterms:modified xsi:type="dcterms:W3CDTF">2012-04-26T17:40:17Z</dcterms:modified>
  <cp:revision>9</cp:revision>
  <dc:subject/>
  <dc:title>Le 14 Juillet </dc:title>
</cp:coreProperties>
</file>